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65C05-C1A9-4F63-8692-BCD044C11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C0296-822A-4966-A35C-BEB51595A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34369-36BF-483C-AE6A-5F01A052B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B6712-3560-494C-82BA-AF9480826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BD0D8-0E16-4A40-A272-457A5D508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F69C-626E-4771-AC91-D03A2C886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CD1D7-FFCD-42CF-96D7-B24830F29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9D87-C770-4A18-96F3-68FB59A4A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FAF81-CD1F-47E6-B9ED-A1C2840F4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9AF13-C818-42D5-9DEE-824B40A5F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69FAD-E165-4951-BA6A-2CED778F0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9E3F3-2453-4B63-AD1A-35351E34E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569160-BEC7-40C5-B1D0-01318E21AD6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45240" cy="7061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45240" cy="70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3-12-11T09:27:08Z</dcterms:modified>
  <cp:revision>91</cp:revision>
  <dc:subject/>
  <dc:title>No Slide Title</dc:title>
</cp:coreProperties>
</file>